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109-C34E-4122-A161-476B1AE9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46A-9C90-4A78-845E-A2D6AAE3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5B8-CDA2-4002-BA32-44F0B5D0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569-8A64-4EFA-AE3E-3C83160F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F97-CE52-4F38-A67A-9C3E23F4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A75-F7A7-42D6-B300-1670194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5E9-4A0B-460E-87E9-7903F74D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09E-15F1-4CB7-B682-D6BA385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522-BCBF-4FBE-9044-61800B7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58E-23E8-416C-BCFF-428359E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DCB-A0F4-4AAB-84B9-4A199C9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E4D-DFEC-424F-84E3-E4E2E1EA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DD1-3B41-4A7C-9089-08E5EBE1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s in Multi-Ethnic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: The Troubles and the Impact of th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2 Declining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of N. Ireland has been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discouraged domestic and foreign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-owned factories closed down due to high-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of bombings drove large manufacture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Political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vil rights marches put pressure on the N. Ireland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Ireland govt announced sweeping reforms to local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d unfair vo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schemes for allocating government-owne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Civil Rights Association (NICRA) formed in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by middle-class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non-violent methods to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from trade unions, political parties and university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vil Rights Movement organised by NICRA in 1968 was the beginning of ‘The Trou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marches, fighting broke out between Catholics, Protestant and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govt sends in troops to keep the peace (Aug 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ops first seen as pro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relations did not las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Ireland govt introduced ‘internment laws’ (Aug 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rmy had power to arrest, interrogate and detain anyone without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lost faith in the British Army when the army began searching their homes and arrest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people participated in an illegal, peaceful march (Sunday, 30 Jan, 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soldiers shot at pro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ead, many w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ident was known as Bloody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urning point and Catholics were greatly ang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972, more violence occurred between Protestants and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homes and businesses were bom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olice did not stop the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rmy continued to raid Catholic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turned to the Irish Republican Army (IRA)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 attacked British soldiers and Protestan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969 and 1993, more than 3500 people were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Social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 Declining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 Politic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1 Social Segreg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N. Ireland grew up in an atmosphere of tension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and Catholics lived, worked and played apart from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people in N. Ireland could grow up not having met someone from the othe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nderstanding between the tw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1:23:49Z</dcterms:created>
  <dc:creator>moe</dc:creator>
  <dc:description/>
  <dc:language>en-US</dc:language>
  <cp:lastModifiedBy>moe</cp:lastModifiedBy>
  <dcterms:modified xsi:type="dcterms:W3CDTF">2009-02-04T01:32:47Z</dcterms:modified>
  <cp:revision>3</cp:revision>
  <dc:subject/>
  <dc:title>Conflicts in Multi-Ethnic Countries</dc:title>
</cp:coreProperties>
</file>